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6FB3-72BB-4C24-9965-ADD1C8BF55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C35D-97E0-4E1A-8433-E0AE315F16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605-9BE8-46F2-ABBA-6BD038F2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76B7-1162-422B-A1ED-A0A884CA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2385-74D7-467D-8A2D-8DE4FB73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43E7-59A6-430F-B963-5B416118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8F2B-BBC8-4C46-AC82-E8B49875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E357-6D90-41CC-8385-3A8677F7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2C61-AEAD-4215-89A8-77F6E70D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3F14-836D-40A5-844D-7F162931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5080-3D2C-4C44-885A-8444A929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44EC-A480-437D-A6D6-5C23E9A0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A96D-E0B7-4E5E-BEF8-36202FAC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25F4-3FEA-4299-9E5C-5C5A8295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F8BB-4DC0-45B7-91BC-421BD24323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B5B5-B7F7-4959-98EE-20E8DB2CEB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314280" y="1476360"/>
          <a:ext cx="8829720" cy="53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476360"/>
                    <a:ext cx="882972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августа 20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C4B3-42A6-452E-8516-8F7FD25489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августа 2024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4-07-31T11:32:40Z</dcterms:modified>
  <cp:revision>171</cp:revision>
  <dc:subject/>
  <dc:title>Презентация PowerPoint</dc:title>
</cp:coreProperties>
</file>